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DED-ECD8-425E-AAE8-83686CA1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00C-A907-4BF4-BE76-F5D6F7FB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C51-C2E3-43C8-97E7-BF5C2DAC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D65-A23D-44AB-A3C0-BC9588F8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9604-C114-4409-9C00-715BD0E5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CAA0-CF56-42C4-A3D8-1ADE0C3F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7E89-5A59-431A-BBB8-07D91DE1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47C1-09A9-4B2D-8B82-DE4229CD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0A34-74E1-4409-A0E5-E25D4BAB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366B-1587-488C-8B57-69D899B1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74E9-7227-4512-A9BA-84F4199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821-AABF-444C-AF7C-54F1A283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E292-5401-47B4-A9D4-6371069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74DB-ABD2-4652-BB82-53E04318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E111-A0E5-48FB-8835-96BAF103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E4E7-F524-4E8B-B1E7-4E0C6F64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96B9-43FC-4F94-9A65-561ACA16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974-60EF-4025-9461-FE65041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EDB-A25E-4FE9-8C71-4398CB30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FB4-5CFB-4F53-9158-0ACEE55C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A0E-4539-48A7-AA48-30E21B56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C0B-AC67-4EE4-9624-10F4785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E62-5FD0-453E-B2B4-7843FE46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309-E428-44C9-A6CE-956C513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5C07-D9FA-45A8-B8C5-99ACBE7C6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2F24-585C-4775-9E8C-AA78C9D93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bject Pronouns and S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bjects Pronoun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panish a verb can tell the subject of the sentence all by itself! This happens when you conjugate the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is often times necessary to use a subject pronoun to help clarify the conjugation of the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lets learn a verb conjug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- TO B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SOY( I 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RES (you fam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(___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s/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pecific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sotras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SOMOS(w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   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osotro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d Vosot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or more specific n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334040" y="202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801840" y="35812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ois (You all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162200" y="4191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You all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620120" y="4724280"/>
            <a:ext cx="12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They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463080" y="4460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amos a practicar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form of the verb ser for the following subject pronou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an y Mar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osot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ou (Plural and Famili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osé y y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te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 familiar / Sing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ás práct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choose the subject pronoun for each form of the verb 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er: to tell where you are fro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use ser to tell where people are from. Here is the formu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bject + Ser + de +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: Yo soy de Ch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 eres de Per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os son de Hondu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1" descr="mp00640_"/>
          <p:cNvPicPr/>
          <p:nvPr/>
        </p:nvPicPr>
        <p:blipFill>
          <a:blip r:embed="rId1"/>
          <a:stretch/>
        </p:blipFill>
        <p:spPr>
          <a:xfrm>
            <a:off x="4648320" y="2141640"/>
            <a:ext cx="3809880" cy="3794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e into a sent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/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/ Nicara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otros/ Paragu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sotros/Los Estados Un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o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/ Cu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maestra/ Venezu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muchachos/ El Salv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guel y yo/ Puerto 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ú/ Mé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os/ /Colom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mbre y la mujer/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bject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ect of a sentence tells us who is doing th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b tells us what action is taking place in the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bject Pronou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 pronouns are used to discuss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ject pronoun tells who is the subject of the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 pronouns can replace names when tal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se are the Subject Prounouns in Spanis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 Famili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ted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You 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l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a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 Specific name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sotro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sotra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We (gir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sotro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You (Familiar/Spain/ Mascul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sotra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– (You / Feminine/Familiar/Spa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tede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You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o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a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y (gir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or more nam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Juan y Migu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70320" y="116208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639040" y="1143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ú- You FAMILI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us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ú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alking to friends or people who you are on a FIRST NAME basis w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us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ú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you talk to each other, your friends or casual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030620-F-0000W-007A"/>
          <p:cNvPicPr/>
          <p:nvPr/>
        </p:nvPicPr>
        <p:blipFill>
          <a:blip r:embed="rId1"/>
          <a:stretch/>
        </p:blipFill>
        <p:spPr>
          <a:xfrm>
            <a:off x="4648320" y="230976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ted- you FORM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us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US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lking to people who you are on a last name ba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ident, doctors, teachers, adults, etc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010516-O-9999D-001A"/>
          <p:cNvPicPr/>
          <p:nvPr/>
        </p:nvPicPr>
        <p:blipFill>
          <a:blip r:embed="rId1"/>
          <a:stretch/>
        </p:blipFill>
        <p:spPr>
          <a:xfrm>
            <a:off x="685800" y="2651040"/>
            <a:ext cx="380988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ted and Uste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 refers to only one pers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 is abbreviated as U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es refers to more than one person. Can be a formal and informal pers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es is abbreviated as U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025960" y="123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osotros and Vosotr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plural and familiar ways of saying you to a group.  These are not used everywhere only in Sp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pain a teacher would refer to her students as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sotro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stead of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n Mexico and other Spanish speaking countries there is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a difference between the plural you.  Ustedes is used in both situ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¿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ú o Uste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nt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best fri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s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s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u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tea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mom or 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c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7" descr="pe02716_"/>
          <p:cNvPicPr/>
          <p:nvPr/>
        </p:nvPicPr>
        <p:blipFill>
          <a:blip r:embed="rId1"/>
          <a:stretch/>
        </p:blipFill>
        <p:spPr>
          <a:xfrm>
            <a:off x="4648320" y="2241720"/>
            <a:ext cx="3809880" cy="3593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8:21:09Z</dcterms:created>
  <dc:creator>steve shebloski</dc:creator>
  <dc:description/>
  <dc:language>en-US</dc:language>
  <cp:lastModifiedBy>Nicole Fannoney</cp:lastModifiedBy>
  <cp:lastPrinted>2009-04-22T19:24:48Z</cp:lastPrinted>
  <dcterms:modified xsi:type="dcterms:W3CDTF">2014-09-18T12:30:29Z</dcterms:modified>
  <cp:revision>19</cp:revision>
  <dc:subject/>
  <dc:title>Subject Pronouns</dc:title>
</cp:coreProperties>
</file>